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8.wmf" ContentType="image/x-wmf"/>
  <Override PartName="/ppt/media/image13.png" ContentType="image/png"/>
  <Override PartName="/ppt/media/image12.jpeg" ContentType="image/jpeg"/>
  <Override PartName="/ppt/media/image7.wmf" ContentType="image/x-wmf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5.jpeg" ContentType="image/jpeg"/>
  <Override PartName="/ppt/media/image6.png" ContentType="image/png"/>
  <Override PartName="/ppt/media/image11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AA05D-EC41-4EA5-8364-007DC33BB9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BE540-A4C7-4B94-8C0E-18C6721007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BA59E-4143-4C41-9A79-706F81ACE5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F02AC-2796-4CEA-8DBA-6D6C58D645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B24C9-AE97-4252-8D4D-13BEE26D35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50D52-32E9-4C11-9BCD-1EA72B7B2C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8B374-9178-4EC7-95B6-D7D20F959E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86406-1496-4C03-ADC2-222A9D469E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D1879-FEC5-4844-8C57-D372AFB73F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839CA-527A-40F3-ABBC-94B3397A97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96430-8A13-4D14-9ED2-7A594DFA73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1207A-B548-4CF1-B905-F7C677960C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A495C-A5C6-4B01-A412-E30FAF5579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04B3A-BFA5-40EA-95E0-DDAD0C49EB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CFCF7-440B-4176-9BB3-1B72A5790C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B02525-67C9-4CFC-80F6-19F7E0484D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E4C5F5-F73D-4102-A5E3-79722C7B74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84AA0E-57C1-43F3-858F-2A5DBB110A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462F84-BC12-4D1C-9592-F742FD990A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6DBC0-B2D4-48D9-A7C4-7D757F61C84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DBA3C-88AC-4966-8A7B-85886CEAA36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2DFE7-A7EB-4C37-8DCF-0E3DFF79A69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39E40-C2B7-428A-B6C6-F0B99E32AD8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9895F-D67B-48C3-A847-B536F465CCC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53352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DE26F-A08F-4ECE-848B-A2AF053ECD1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9C444-E5DF-41E1-8580-AF3950A83BD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F6F11B-BB3E-4B34-8700-0924043422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F2C48-B686-4C23-B915-D326732CB53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B8C47-CD70-4E18-9E7F-855D5C2DED1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B95BB-069A-418C-A0D3-C45287F2419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E521A-D629-4303-B5B3-49D4B414AB5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786DA-E8FC-46A8-9969-93F6F11838D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EBE123-2C20-4B35-8931-665C42A2FC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52643B-B466-4EE3-AFEB-67E83949BF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6B010B-7B26-4EA7-B9F7-C25DA48F7B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3352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642832-034E-4063-9D0A-6DD95DC34A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EA1BBD-8C64-47CD-A01F-DEA5A6689A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4D7BB0-FC46-4B59-8356-25E003C874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22DDDF-15E1-431B-B0A8-E07CDC47E9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71C4B-2D1F-4303-93D8-C7E9A120631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1AEF4-AB8E-4BCE-A1C7-EA2FF86E875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600" spc="-1" strike="noStrike">
                <a:solidFill>
                  <a:srgbClr val="ffffff"/>
                </a:solidFill>
                <a:latin typeface="Verdana"/>
              </a:rPr>
              <a:t>Quality Control of Antimicrobial Susceptibility Tests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616EB-4D62-4FA8-8C51-3A256B11810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lection of a Colony to Tes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CC70F-F453-455E-B48D-C7D846778660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Object 2"/>
          <p:cNvGraphicFramePr/>
          <p:nvPr/>
        </p:nvGraphicFramePr>
        <p:xfrm>
          <a:off x="1220760" y="1752480"/>
          <a:ext cx="670248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0760" y="1752480"/>
                    <a:ext cx="670248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267B29-D91D-4F41-A8F5-BC5DD9D4A41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cFarland 0.5 and </a:t>
            </a: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djusted Test Organis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6DF05-2C59-481F-80F9-4E147976ABD9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Object 2"/>
          <p:cNvGraphicFramePr/>
          <p:nvPr/>
        </p:nvGraphicFramePr>
        <p:xfrm>
          <a:off x="1220760" y="1752480"/>
          <a:ext cx="670248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0760" y="1752480"/>
                    <a:ext cx="670248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1BCDB1-E118-470E-8CC8-F59BF95A4EB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3BB02-0ECC-4E12-B22B-9949328A011C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Use of Disk Dispenser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648320" cy="44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practical, rapi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crease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Arial Unicode MS"/>
              </a:rPr>
              <a:t>reproducibil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Risks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contamin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reduces personal judgment skil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5" name="Picture 4" descr="distributeur"/>
          <p:cNvPicPr/>
          <p:nvPr/>
        </p:nvPicPr>
        <p:blipFill>
          <a:blip r:embed="rId1"/>
          <a:stretch/>
        </p:blipFill>
        <p:spPr>
          <a:xfrm>
            <a:off x="5105520" y="2057400"/>
            <a:ext cx="3886200" cy="3265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16FF17-7717-4105-BE05-D4AF37CD2CE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9393A-A8A4-4861-8548-20606C8C63B3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Disk Susceptibility Testing Problem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58" name="Picture 12" descr="Too Heavy"/>
          <p:cNvPicPr/>
          <p:nvPr/>
        </p:nvPicPr>
        <p:blipFill>
          <a:blip r:embed="rId1"/>
          <a:stretch/>
        </p:blipFill>
        <p:spPr>
          <a:xfrm>
            <a:off x="304920" y="1447920"/>
            <a:ext cx="8381880" cy="4495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8B9443-5F52-4544-9B58-DB1E7D5FF5F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Disk Susceptibility Testing Problem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60" name="Picture 5" descr="Disk moved"/>
          <p:cNvPicPr/>
          <p:nvPr/>
        </p:nvPicPr>
        <p:blipFill>
          <a:blip r:embed="rId1"/>
          <a:stretch/>
        </p:blipFill>
        <p:spPr>
          <a:xfrm>
            <a:off x="533520" y="1447920"/>
            <a:ext cx="7734240" cy="498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5D0693-DCE7-4136-B2F9-034434FA519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49441-6C61-43CD-8BD1-3F1CEA0C3601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2" descr="pied_coulisse-calliper"/>
          <p:cNvPicPr/>
          <p:nvPr/>
        </p:nvPicPr>
        <p:blipFill>
          <a:blip r:embed="rId1"/>
          <a:stretch/>
        </p:blipFill>
        <p:spPr>
          <a:xfrm>
            <a:off x="457200" y="1371600"/>
            <a:ext cx="3276720" cy="259704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Measuring Condi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64" name="Picture 7" descr="Antibiot"/>
          <p:cNvPicPr/>
          <p:nvPr/>
        </p:nvPicPr>
        <p:blipFill>
          <a:blip r:embed="rId2"/>
          <a:stretch/>
        </p:blipFill>
        <p:spPr>
          <a:xfrm>
            <a:off x="5791320" y="1219320"/>
            <a:ext cx="1973160" cy="266688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8"/>
          <p:cNvSpPr/>
          <p:nvPr/>
        </p:nvSpPr>
        <p:spPr>
          <a:xfrm>
            <a:off x="6577560" y="403848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u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9"/>
          <p:cNvSpPr/>
          <p:nvPr/>
        </p:nvSpPr>
        <p:spPr>
          <a:xfrm>
            <a:off x="2094120" y="4114800"/>
            <a:ext cx="13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lip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10"/>
          <p:cNvSpPr/>
          <p:nvPr/>
        </p:nvSpPr>
        <p:spPr>
          <a:xfrm>
            <a:off x="304920" y="4572000"/>
            <a:ext cx="8458200" cy="175248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read with good light, and from the back of the p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zone size reading is drug specifi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agnification may hel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illimeters mat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8" name="Object 9"/>
          <p:cNvGraphicFramePr/>
          <p:nvPr/>
        </p:nvGraphicFramePr>
        <p:xfrm>
          <a:off x="2438280" y="1905120"/>
          <a:ext cx="3117960" cy="2104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38280" y="1905120"/>
                    <a:ext cx="3117960" cy="21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F73B30-A111-4F4F-B50E-BCB61195C0B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test – antimicrobial gradient method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E078B-E364-4D27-B2A7-6670C24D05C0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2" descr="CO04-2351 Etest blood cult isolate 2"/>
          <p:cNvPicPr/>
          <p:nvPr/>
        </p:nvPicPr>
        <p:blipFill>
          <a:blip r:embed="rId1"/>
          <a:stretch/>
        </p:blipFill>
        <p:spPr>
          <a:xfrm>
            <a:off x="1554120" y="1752480"/>
            <a:ext cx="603576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4D2521-EB5B-41C0-93D4-D2E4EF9FE59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atient results may be incorrect if: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organism was misidentifi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clerical error was mad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appropriate choice of antimicrobials were tested and report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wrong patient’s sample was examin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wrong test was order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sample was not preserved proper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928086-7E4F-478D-93F3-674FBBA57BD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FE0D3-CE41-42F4-A9B6-6818EE6ED4B3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ntimicrobial Susceptibility Tes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14" name="Picture 4" descr="k_b"/>
          <p:cNvPicPr/>
          <p:nvPr/>
        </p:nvPicPr>
        <p:blipFill>
          <a:blip r:embed="rId1"/>
          <a:stretch/>
        </p:blipFill>
        <p:spPr>
          <a:xfrm>
            <a:off x="457200" y="1600200"/>
            <a:ext cx="1714680" cy="16686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Staphylococcus_aureus_Etest2"/>
          <p:cNvPicPr/>
          <p:nvPr/>
        </p:nvPicPr>
        <p:blipFill>
          <a:blip r:embed="rId2"/>
          <a:stretch/>
        </p:blipFill>
        <p:spPr>
          <a:xfrm>
            <a:off x="2362320" y="1600200"/>
            <a:ext cx="1676160" cy="16765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8" descr="micmlc2"/>
          <p:cNvPicPr/>
          <p:nvPr/>
        </p:nvPicPr>
        <p:blipFill>
          <a:blip r:embed="rId3"/>
          <a:stretch/>
        </p:blipFill>
        <p:spPr>
          <a:xfrm>
            <a:off x="4114800" y="1600200"/>
            <a:ext cx="2209680" cy="17496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0" descr="vitek-2"/>
          <p:cNvPicPr/>
          <p:nvPr/>
        </p:nvPicPr>
        <p:blipFill>
          <a:blip r:embed="rId4"/>
          <a:stretch/>
        </p:blipFill>
        <p:spPr>
          <a:xfrm>
            <a:off x="6400800" y="1600200"/>
            <a:ext cx="2362320" cy="177012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11"/>
          <p:cNvSpPr/>
          <p:nvPr/>
        </p:nvSpPr>
        <p:spPr>
          <a:xfrm>
            <a:off x="871920" y="4114800"/>
            <a:ext cx="6976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vide information for selection of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 appropriate agent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timicrobial thera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F8AA6C-0E58-47DD-A3C5-3BF04F015BE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ST Methods Interpret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gar disk diffusion method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provides qualitative interpretive category results of susceptible, intermediate, and resista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icrodilution and agar gradient diffusion methods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provide a quantitative result, a minimum inhibitory concentration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BC0ACC-A82B-41AB-8592-50AE93D438C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PBL Susceptibility testing 2008"/>
          <p:cNvPicPr/>
          <p:nvPr/>
        </p:nvPicPr>
        <p:blipFill>
          <a:blip r:embed="rId1"/>
          <a:srcRect l="4364" t="8470" r="5455" b="8470"/>
          <a:stretch/>
        </p:blipFill>
        <p:spPr>
          <a:xfrm>
            <a:off x="685800" y="1143000"/>
            <a:ext cx="7558200" cy="522756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762120" y="457200"/>
            <a:ext cx="61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ST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22F421-07B1-4A05-A845-23D17E5733E7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lide Number Placeholder 1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73BD2-6B63-40A2-B4BE-5ED3CC07C37B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457200" y="2819520"/>
            <a:ext cx="2708280" cy="350496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125" name="Text Box 3"/>
          <p:cNvSpPr/>
          <p:nvPr/>
        </p:nvSpPr>
        <p:spPr>
          <a:xfrm>
            <a:off x="304920" y="1295280"/>
            <a:ext cx="8076960" cy="13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nical and Laboratory Standards  Instit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rench Society of Microbi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ritish Society for Antimicrobial Chemothera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7" descr=""/>
          <p:cNvPicPr/>
          <p:nvPr/>
        </p:nvPicPr>
        <p:blipFill>
          <a:blip r:embed="rId2"/>
          <a:stretch/>
        </p:blipFill>
        <p:spPr>
          <a:xfrm>
            <a:off x="6172200" y="2819520"/>
            <a:ext cx="2503440" cy="3504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aphicFrame>
        <p:nvGraphicFramePr>
          <p:cNvPr id="127" name="Object 6"/>
          <p:cNvGraphicFramePr/>
          <p:nvPr/>
        </p:nvGraphicFramePr>
        <p:xfrm>
          <a:off x="3429000" y="2819520"/>
          <a:ext cx="2639880" cy="3504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8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819520"/>
                    <a:ext cx="2639880" cy="3504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29" name=""/>
          <p:cNvSpPr/>
          <p:nvPr/>
        </p:nvSpPr>
        <p:spPr>
          <a:xfrm>
            <a:off x="685800" y="457200"/>
            <a:ext cx="36576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E4ADB5-F52F-4C40-9728-8A23E313306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Example from an excerpt from Reference:</a:t>
            </a:r>
            <a:br>
              <a:rPr sz="28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lection of Drug to Tes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0525D-0CC1-4CC8-9DAD-D6675DAF7496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" name="Object 2"/>
          <p:cNvGraphicFramePr/>
          <p:nvPr/>
        </p:nvGraphicFramePr>
        <p:xfrm>
          <a:off x="380880" y="1981080"/>
          <a:ext cx="8272440" cy="377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981080"/>
                    <a:ext cx="8272440" cy="377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3E30D5-5CD6-435C-9A61-B056D539EBD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FD9B4-ADC1-49CF-838A-FE932F6AE4AC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ere errors can occur in susceptibility tes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edia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antimicrobial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oculum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cub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equipment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terpret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3ECC62-C61A-4CF1-9601-A72B0924021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E8AD4-680D-4364-B24B-D82EFBBA4C66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gar disk diffusion method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8458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ediu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 Mueller Hinto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4 mm thicknes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pH 7.2 to 7.4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tibiotic          storage    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20</a:t>
            </a:r>
            <a:r>
              <a:rPr b="0" lang="en-US" sz="2400" spc="-1" strike="noStrike" baseline="40000">
                <a:solidFill>
                  <a:srgbClr val="000000"/>
                </a:solidFill>
                <a:latin typeface="Verdan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 minimu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ks                temperatu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oculu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cFarland 0.5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(10</a:t>
            </a:r>
            <a:r>
              <a:rPr b="0" lang="en-GB" sz="2400" spc="-1" strike="noStrike" baseline="30000">
                <a:solidFill>
                  <a:srgbClr val="000000"/>
                </a:solidFill>
                <a:latin typeface="Verdana"/>
              </a:rPr>
              <a:t>8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bacteria/mL)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Incubator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        temperature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35</a:t>
            </a:r>
            <a:r>
              <a:rPr b="0" lang="en-GB" sz="2400" spc="-1" strike="noStrike" baseline="30000">
                <a:solidFill>
                  <a:srgbClr val="000000"/>
                </a:solidFill>
                <a:latin typeface="Verdana"/>
              </a:rPr>
              <a:t>o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tmosphere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mbient ai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7BE108-85F8-456F-A3AD-32639281494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5A350-FE0B-4205-B421-4C3FA0BA37A9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Reference Strai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Verdana"/>
              </a:rPr>
              <a:t>E. coli 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ATCC 25922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Verdana"/>
              </a:rPr>
              <a:t>S. aureus 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ATCC 25923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Verdana"/>
              </a:rPr>
              <a:t>P. aeruginosa 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ATCC 27853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"/>
          <p:cNvSpPr/>
          <p:nvPr/>
        </p:nvSpPr>
        <p:spPr>
          <a:xfrm>
            <a:off x="685800" y="3886200"/>
            <a:ext cx="807732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C organisms must be obtained from reputable source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specific QC organisms to test different groups of “drug-bug” combin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E64CB9-6169-43C3-B37E-DBD1FF022EB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8T06:56:40Z</dcterms:created>
  <dc:creator>Robin Barteluk</dc:creator>
  <dc:description/>
  <dc:language>en-US</dc:language>
  <cp:lastModifiedBy>Robin Barteluk</cp:lastModifiedBy>
  <dcterms:modified xsi:type="dcterms:W3CDTF">2008-12-02T03:54:50Z</dcterms:modified>
  <cp:revision>7</cp:revision>
  <dc:subject/>
  <dc:title>Microbiology QC</dc:title>
</cp:coreProperties>
</file>